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B6F-F431-42E6-A59D-95F4FADF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711-759C-4C50-8311-AB3B4D9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972-E673-4142-984C-359DA7F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F1A-ACEA-4DAF-99EB-F7A904D0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FA7-910A-4AC3-8D46-04115EB4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E54-8C1F-4743-B487-4C54694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482-47C5-4373-B871-B3DB58D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9B9-D36C-4D25-94FC-2A4BD7A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37A-8284-48EB-9A1A-340197A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5BB-257E-4EE8-A831-7F7E379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9E4-7D15-472F-B383-16156F6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554-33E7-4540-8ADA-133C824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3567-E9B5-434A-91A7-13EA09B54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hyperlink" Target="http://900igr.net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0908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Средняя общеобразовательная школа № 15»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город Глазов</a:t>
            </a:r>
            <a:br>
              <a:rPr sz="2000"/>
            </a:b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Удмурт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РЕНАЖ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БЕЗУДАРНЫЕ 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для коррекции и профилактики дизорфографии у учащихся с ОНР 3 - 4 классов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часть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Ившина Татья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учитель – логопед,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7885080" y="573408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700680" y="3633840"/>
            <a:ext cx="15210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50920" y="1058760"/>
            <a:ext cx="1468440" cy="176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7236000" y="1127160"/>
            <a:ext cx="1411200" cy="169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250920" y="3836880"/>
            <a:ext cx="1525320" cy="18306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10">
            <a:hlinkClick r:id="rId5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…р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…т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с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з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…сн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2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44"/>
          <p:cNvSpPr/>
          <p:nvPr/>
        </p:nvSpPr>
        <p:spPr>
          <a:xfrm>
            <a:off x="716580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8"/>
          <p:cNvSpPr/>
          <p:nvPr/>
        </p:nvSpPr>
        <p:spPr>
          <a:xfrm>
            <a:off x="147492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7" name="WordArt 53"/>
          <p:cNvSpPr txBox="1"/>
          <p:nvPr/>
        </p:nvSpPr>
        <p:spPr>
          <a:xfrm>
            <a:off x="2195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8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9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0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1" name="WordArt 57"/>
          <p:cNvSpPr txBox="1"/>
          <p:nvPr/>
        </p:nvSpPr>
        <p:spPr>
          <a:xfrm>
            <a:off x="2195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2" name="WordArt 58"/>
          <p:cNvSpPr txBox="1"/>
          <p:nvPr/>
        </p:nvSpPr>
        <p:spPr>
          <a:xfrm>
            <a:off x="212580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59"/>
          <p:cNvSpPr txBox="1"/>
          <p:nvPr/>
        </p:nvSpPr>
        <p:spPr>
          <a:xfrm>
            <a:off x="6443640" y="35053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4" name="WordArt 60"/>
          <p:cNvSpPr txBox="1"/>
          <p:nvPr/>
        </p:nvSpPr>
        <p:spPr>
          <a:xfrm>
            <a:off x="219708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5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0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1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68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77521E-007 L 0.18906 0.00463 E">
                                      <p:cBhvr>
                                        <p:cTn id="846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3628 0.00462 E">
                                      <p:cBhvr>
                                        <p:cTn id="85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125 0.00463 E">
                                      <p:cBhvr>
                                        <p:cTn id="856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786E-006 L -0.2125 -0.00578 E">
                                      <p:cBhvr>
                                        <p:cTn id="861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2812 0.00463 E">
                                      <p:cBhvr>
                                        <p:cTn id="86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049 -0.00578 E">
                                      <p:cBhvr>
                                        <p:cTn id="871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7552 -0.00578 E">
                                      <p:cBhvr>
                                        <p:cTn id="876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щ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бес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…р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гл…д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…ж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ж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6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7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9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08" name="Picture 68" descr=""/>
          <p:cNvPicPr/>
          <p:nvPr/>
        </p:nvPicPr>
        <p:blipFill>
          <a:blip r:embed="rId1"/>
          <a:stretch/>
        </p:blipFill>
        <p:spPr>
          <a:xfrm>
            <a:off x="-22860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1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7326 0.00463 E">
                                      <p:cBhvr>
                                        <p:cTn id="956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125 0.00462 E">
                                      <p:cBhvr>
                                        <p:cTn id="96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7734E-006 L -0.23611 0.00463 E">
                                      <p:cBhvr>
                                        <p:cTn id="966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1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2812 -0.00601 E">
                                      <p:cBhvr>
                                        <p:cTn id="9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5972 -0.00602 E">
                                      <p:cBhvr>
                                        <p:cTn id="98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6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02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д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т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нят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…в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ло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бу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л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1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4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5" name="WordArt 59"/>
          <p:cNvSpPr txBox="1"/>
          <p:nvPr/>
        </p:nvSpPr>
        <p:spPr>
          <a:xfrm>
            <a:off x="219564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5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54" name="Picture 68" descr=""/>
          <p:cNvPicPr/>
          <p:nvPr/>
        </p:nvPicPr>
        <p:blipFill>
          <a:blip r:embed="rId1"/>
          <a:stretch/>
        </p:blipFill>
        <p:spPr>
          <a:xfrm>
            <a:off x="7524720" y="401004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7552 -0.00601 E">
                                      <p:cBhvr>
                                        <p:cTn id="1056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1267 0.00463 E">
                                      <p:cBhvr>
                                        <p:cTn id="106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9114 0.00462 E">
                                      <p:cBhvr>
                                        <p:cTn id="1066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75301E-007 L 0.23646 0.00532 E">
                                      <p:cBhvr>
                                        <p:cTn id="1071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0.0044 E">
                                      <p:cBhvr>
                                        <p:cTn id="107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108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1086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1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114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сти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д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…в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ит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ст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9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00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21285 0.0044 E">
                                      <p:cBhvr>
                                        <p:cTn id="1161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5764 -0.00601 E">
                                      <p:cBhvr>
                                        <p:cTn id="1166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7326 -0.00602 E">
                                      <p:cBhvr>
                                        <p:cTn id="1171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17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1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6753 0.00463 E">
                                      <p:cBhvr>
                                        <p:cTn id="118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8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1475 -0.00602 E">
                                      <p:cBhvr>
                                        <p:cTn id="119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193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21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0.00463 E">
                                      <p:cBhvr>
                                        <p:cTn id="1252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…люх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в…тшал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…род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…лить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…р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8"/>
          <p:cNvSpPr/>
          <p:nvPr/>
        </p:nvSpPr>
        <p:spPr>
          <a:xfrm>
            <a:off x="1476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1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5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6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46" name="Picture 70" descr=""/>
          <p:cNvPicPr/>
          <p:nvPr/>
        </p:nvPicPr>
        <p:blipFill>
          <a:blip r:embed="rId1"/>
          <a:stretch/>
        </p:blipFill>
        <p:spPr>
          <a:xfrm>
            <a:off x="7608960" y="141300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3628 0.0044 E">
                                      <p:cBhvr>
                                        <p:cTn id="126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0.00463 E">
                                      <p:cBhvr>
                                        <p:cTn id="127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9687 0.00462 E">
                                      <p:cBhvr>
                                        <p:cTn id="127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757 0.00532 E">
                                      <p:cBhvr>
                                        <p:cTn id="1281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86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0.00463 E">
                                      <p:cBhvr>
                                        <p:cTn id="1291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0486 -0.00602 E">
                                      <p:cBhvr>
                                        <p:cTn id="1296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3628 -0.00578 E">
                                      <p:cBhvr>
                                        <p:cTn id="1301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30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27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43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359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…дск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гри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…лбен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…скну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р…д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2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7"/>
          <p:cNvSpPr/>
          <p:nvPr/>
        </p:nvSpPr>
        <p:spPr>
          <a:xfrm>
            <a:off x="147492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9"/>
          <p:cNvSpPr/>
          <p:nvPr/>
        </p:nvSpPr>
        <p:spPr>
          <a:xfrm>
            <a:off x="147492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7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8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79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0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1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6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8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89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1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692" name="Picture 68" descr=""/>
          <p:cNvPicPr/>
          <p:nvPr/>
        </p:nvPicPr>
        <p:blipFill>
          <a:blip r:embed="rId1"/>
          <a:stretch/>
        </p:blipFill>
        <p:spPr>
          <a:xfrm>
            <a:off x="-228600" y="119700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22847 -0.00601 E">
                                      <p:cBhvr>
                                        <p:cTn id="1371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373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4392 0.00463 E">
                                      <p:cBhvr>
                                        <p:cTn id="137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1381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6.75301E-007 L -0.2599 0.00532 E">
                                      <p:cBhvr>
                                        <p:cTn id="13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388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6545 -0.00601 E">
                                      <p:cBhvr>
                                        <p:cTn id="1391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0.00463 E">
                                      <p:cBhvr>
                                        <p:cTn id="1396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8906 -0.00602 E">
                                      <p:cBhvr>
                                        <p:cTn id="140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125 -0.00578 E">
                                      <p:cBhvr>
                                        <p:cTn id="1406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4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456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з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…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л…д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гов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98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1476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0"/>
          <p:cNvSpPr/>
          <p:nvPr/>
        </p:nvSpPr>
        <p:spPr>
          <a:xfrm>
            <a:off x="7164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1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3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4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5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6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1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3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4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37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38" name="Picture 72" descr=""/>
          <p:cNvPicPr/>
          <p:nvPr/>
        </p:nvPicPr>
        <p:blipFill>
          <a:blip r:embed="rId1"/>
          <a:stretch/>
        </p:blipFill>
        <p:spPr>
          <a:xfrm>
            <a:off x="752472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9114 0.00463 E">
                                      <p:cBhvr>
                                        <p:cTn id="1476" dur="2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1478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457E-006 L 0.22847 -0.00578 E">
                                      <p:cBhvr>
                                        <p:cTn id="1481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483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22031 0.00463 E">
                                      <p:cBhvr>
                                        <p:cTn id="1486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91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731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731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011E-007 L -0.28333 -0.00601 E">
                                      <p:cBhvr>
                                        <p:cTn id="1496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1498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7123E-006 L 0.2283 0.00462 E">
                                      <p:cBhvr>
                                        <p:cTn id="150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6788 -0.00578 E">
                                      <p:cBhvr>
                                        <p:cTn id="150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23628 -0.00578 E">
                                      <p:cBhvr>
                                        <p:cTn id="1511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21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6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…зат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…ш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ж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т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н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к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що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44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4"/>
          <p:cNvSpPr/>
          <p:nvPr/>
        </p:nvSpPr>
        <p:spPr>
          <a:xfrm>
            <a:off x="7164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45"/>
          <p:cNvSpPr/>
          <p:nvPr/>
        </p:nvSpPr>
        <p:spPr>
          <a:xfrm>
            <a:off x="7164360" y="212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46"/>
          <p:cNvSpPr/>
          <p:nvPr/>
        </p:nvSpPr>
        <p:spPr>
          <a:xfrm>
            <a:off x="1476360" y="277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47"/>
          <p:cNvSpPr/>
          <p:nvPr/>
        </p:nvSpPr>
        <p:spPr>
          <a:xfrm>
            <a:off x="147492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8"/>
          <p:cNvSpPr/>
          <p:nvPr/>
        </p:nvSpPr>
        <p:spPr>
          <a:xfrm>
            <a:off x="1476360" y="4071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1476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1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6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8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9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0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2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3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84" name="Picture 68" descr=""/>
          <p:cNvPicPr/>
          <p:nvPr/>
        </p:nvPicPr>
        <p:blipFill>
          <a:blip r:embed="rId1"/>
          <a:stretch/>
        </p:blipFill>
        <p:spPr>
          <a:xfrm>
            <a:off x="-108000" y="4005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578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16545 -0.00509 E">
                                      <p:cBhvr>
                                        <p:cTn id="1581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583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2066 0.00555 E">
                                      <p:cBhvr>
                                        <p:cTn id="1586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3611 -0.00509 E">
                                      <p:cBhvr>
                                        <p:cTn id="159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9408E-006 L -0.28351 -0.00417 E">
                                      <p:cBhvr>
                                        <p:cTn id="159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598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4792E-006 L -0.30694 0.00532 E">
                                      <p:cBhvr>
                                        <p:cTn id="1601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63 L 0.22031 -0.00508 E">
                                      <p:cBhvr>
                                        <p:cTn id="160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08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1064 L -0.29114 -0.00509 E">
                                      <p:cBhvr>
                                        <p:cTn id="1611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613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6 L -0.27552 -0.00486 E">
                                      <p:cBhvr>
                                        <p:cTn id="1616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3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634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1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42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650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5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6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м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хоньк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п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вес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…ку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ёл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рвив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в…т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9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6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49"/>
          <p:cNvSpPr/>
          <p:nvPr/>
        </p:nvSpPr>
        <p:spPr>
          <a:xfrm>
            <a:off x="1476360" y="60278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0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1"/>
          <p:cNvSpPr/>
          <p:nvPr/>
        </p:nvSpPr>
        <p:spPr>
          <a:xfrm>
            <a:off x="1474920" y="53802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5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2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0" name="Picture 68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68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913 -0.00601 E">
                                      <p:cBhvr>
                                        <p:cTn id="1686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30694 0.00463 E">
                                      <p:cBhvr>
                                        <p:cTn id="1691" dur="2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125 0.00462 E">
                                      <p:cBhvr>
                                        <p:cTn id="16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1698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8906 -0.00509 E">
                                      <p:cBhvr>
                                        <p:cTn id="1701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2847 -0.00601 E">
                                      <p:cBhvr>
                                        <p:cTn id="170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0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18108 -0.00601 E">
                                      <p:cBhvr>
                                        <p:cTn id="1711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30694 0.00462 E">
                                      <p:cBhvr>
                                        <p:cTn id="1716" dur="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7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1718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518E-006 L -0.22031 0.00463 E">
                                      <p:cBhvr>
                                        <p:cTn id="17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731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739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6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1747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1755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0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771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опа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лю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…р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…д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…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фей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36" name="Rectangle 29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0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1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5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6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7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8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9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0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1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3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4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45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46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47"/>
          <p:cNvSpPr/>
          <p:nvPr/>
        </p:nvSpPr>
        <p:spPr>
          <a:xfrm>
            <a:off x="7164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48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49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50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51"/>
          <p:cNvSpPr/>
          <p:nvPr/>
        </p:nvSpPr>
        <p:spPr>
          <a:xfrm>
            <a:off x="7164360" y="4726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52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WordArt 53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1" name="WordArt 54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2" name="WordArt 55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56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57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58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59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7" name="WordArt 60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61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9" name="WordArt 62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0" name="WordArt 63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64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2" name="WordArt 65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3" name="WordArt 66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4" name="WordArt 67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5" name="WordArt 68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76" name="Picture 71" descr=""/>
          <p:cNvPicPr/>
          <p:nvPr/>
        </p:nvPicPr>
        <p:blipFill>
          <a:blip r:embed="rId1"/>
          <a:stretch/>
        </p:blipFill>
        <p:spPr>
          <a:xfrm>
            <a:off x="-84240" y="4005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1788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-0.00601 E">
                                      <p:cBhvr>
                                        <p:cTn id="1791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863"/>
                    </p:tgtEl>
                  </p:cond>
                </p:stCondLst>
                <p:childTnLst>
                  <p:par>
                    <p:cTn id="1793" fill="hold">
                      <p:stCondLst>
                        <p:cond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3611 -0.00601 E">
                                      <p:cBhvr>
                                        <p:cTn id="1796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1798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944E-006 L 0.18906 -0.00602 E">
                                      <p:cBhvr>
                                        <p:cTn id="1801" dur="20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22847 -0.00509 E">
                                      <p:cBhvr>
                                        <p:cTn id="180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08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23628 0.0044 E">
                                      <p:cBhvr>
                                        <p:cTn id="1811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1813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1758E-007 L 0.22049 -0.00601 E">
                                      <p:cBhvr>
                                        <p:cTn id="1816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818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1" dur="20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6545 -0.00578 E">
                                      <p:cBhvr>
                                        <p:cTn id="1826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1828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862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1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852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5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876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84328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9440" y="1413000"/>
          <a:ext cx="2950920" cy="5121000"/>
        </p:xfrm>
        <a:graphic>
          <a:graphicData uri="http://schemas.openxmlformats.org/drawingml/2006/table">
            <a:tbl>
              <a:tblPr/>
              <a:tblGrid>
                <a:gridCol w="295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вч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…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п…ши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м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н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…нь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скуч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л…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3" name="Rectangle 26"/>
          <p:cNvSpPr/>
          <p:nvPr/>
        </p:nvSpPr>
        <p:spPr>
          <a:xfrm>
            <a:off x="1403280" y="206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140328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1403280" y="27115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1403280" y="33577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403280" y="4006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>
            <a:off x="1403280" y="46562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1403280" y="53038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1403280" y="5951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156360" y="141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6156360" y="206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6156360" y="2708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6156360" y="3355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6156360" y="40053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6156360" y="46530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6156360" y="5300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6156360" y="5948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2"/>
          <p:cNvSpPr/>
          <p:nvPr/>
        </p:nvSpPr>
        <p:spPr>
          <a:xfrm>
            <a:off x="7021440" y="148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1"/>
          <p:cNvSpPr/>
          <p:nvPr/>
        </p:nvSpPr>
        <p:spPr>
          <a:xfrm>
            <a:off x="702000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2"/>
          <p:cNvSpPr/>
          <p:nvPr/>
        </p:nvSpPr>
        <p:spPr>
          <a:xfrm>
            <a:off x="702144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3"/>
          <p:cNvSpPr/>
          <p:nvPr/>
        </p:nvSpPr>
        <p:spPr>
          <a:xfrm>
            <a:off x="702144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4"/>
          <p:cNvSpPr/>
          <p:nvPr/>
        </p:nvSpPr>
        <p:spPr>
          <a:xfrm>
            <a:off x="702000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5"/>
          <p:cNvSpPr/>
          <p:nvPr/>
        </p:nvSpPr>
        <p:spPr>
          <a:xfrm>
            <a:off x="702144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6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7"/>
          <p:cNvSpPr/>
          <p:nvPr/>
        </p:nvSpPr>
        <p:spPr>
          <a:xfrm>
            <a:off x="154764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9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0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>
            <a:off x="2195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65"/>
          <p:cNvSpPr txBox="1"/>
          <p:nvPr/>
        </p:nvSpPr>
        <p:spPr>
          <a:xfrm>
            <a:off x="637236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66"/>
          <p:cNvSpPr txBox="1"/>
          <p:nvPr/>
        </p:nvSpPr>
        <p:spPr>
          <a:xfrm>
            <a:off x="219564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67"/>
          <p:cNvSpPr txBox="1"/>
          <p:nvPr/>
        </p:nvSpPr>
        <p:spPr>
          <a:xfrm>
            <a:off x="6372360" y="213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19564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6372360" y="278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19708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637236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74"/>
          <p:cNvSpPr txBox="1"/>
          <p:nvPr/>
        </p:nvSpPr>
        <p:spPr>
          <a:xfrm>
            <a:off x="2197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637236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2195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7"/>
          <p:cNvSpPr txBox="1"/>
          <p:nvPr/>
        </p:nvSpPr>
        <p:spPr>
          <a:xfrm>
            <a:off x="637236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78"/>
          <p:cNvSpPr txBox="1"/>
          <p:nvPr/>
        </p:nvSpPr>
        <p:spPr>
          <a:xfrm>
            <a:off x="219564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79"/>
          <p:cNvSpPr txBox="1"/>
          <p:nvPr/>
        </p:nvSpPr>
        <p:spPr>
          <a:xfrm>
            <a:off x="6372360" y="5373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0"/>
          <p:cNvSpPr txBox="1"/>
          <p:nvPr/>
        </p:nvSpPr>
        <p:spPr>
          <a:xfrm>
            <a:off x="219708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1"/>
          <p:cNvSpPr txBox="1"/>
          <p:nvPr/>
        </p:nvSpPr>
        <p:spPr>
          <a:xfrm>
            <a:off x="6372360" y="6021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2239E-006 L 0.15764 -0.00509 E">
                                      <p:cBhvr>
                                        <p:cTn id="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7826E-006 L 0.18125 0.00532 E">
                                      <p:cBhvr>
                                        <p:cTn id="1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-0.00532 L 0.24236 -0.00532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75301E-007 L 0.16528 -0.00509 E">
                                      <p:cBhvr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4792E-006 L 0.18108 -0.00509 E">
                                      <p:cBhvr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2886E-006 L -0.24392 -0.00508 E">
                                      <p:cBhvr>
                                        <p:cTn id="3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7299E-006 L -0.28333 -0.00532 E">
                                      <p:cBhvr>
                                        <p:cTn id="3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9769E-007 L 0.22049 -0.00509 E">
                                      <p:cBhvr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2843280" y="140652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р…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рех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ч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ен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стерст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…г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…льча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882" name="Rectangle 28"/>
          <p:cNvSpPr/>
          <p:nvPr/>
        </p:nvSpPr>
        <p:spPr>
          <a:xfrm>
            <a:off x="1332000" y="206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33200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1332000" y="27097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1332000" y="33559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1332000" y="40053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3"/>
          <p:cNvSpPr/>
          <p:nvPr/>
        </p:nvSpPr>
        <p:spPr>
          <a:xfrm>
            <a:off x="1332000" y="46544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34"/>
          <p:cNvSpPr/>
          <p:nvPr/>
        </p:nvSpPr>
        <p:spPr>
          <a:xfrm>
            <a:off x="1332000" y="53020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5"/>
          <p:cNvSpPr/>
          <p:nvPr/>
        </p:nvSpPr>
        <p:spPr>
          <a:xfrm>
            <a:off x="1332000" y="595008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299280" y="141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6299280" y="205884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8"/>
          <p:cNvSpPr/>
          <p:nvPr/>
        </p:nvSpPr>
        <p:spPr>
          <a:xfrm>
            <a:off x="6299280" y="270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9"/>
          <p:cNvSpPr/>
          <p:nvPr/>
        </p:nvSpPr>
        <p:spPr>
          <a:xfrm>
            <a:off x="6299280" y="33544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6299280" y="4003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6299280" y="46512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299280" y="52992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3"/>
          <p:cNvSpPr/>
          <p:nvPr/>
        </p:nvSpPr>
        <p:spPr>
          <a:xfrm>
            <a:off x="6299280" y="59468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7165800" y="147780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7164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46"/>
          <p:cNvSpPr/>
          <p:nvPr/>
        </p:nvSpPr>
        <p:spPr>
          <a:xfrm>
            <a:off x="147492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47"/>
          <p:cNvSpPr/>
          <p:nvPr/>
        </p:nvSpPr>
        <p:spPr>
          <a:xfrm>
            <a:off x="7164360" y="3422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8"/>
          <p:cNvSpPr/>
          <p:nvPr/>
        </p:nvSpPr>
        <p:spPr>
          <a:xfrm>
            <a:off x="7164360" y="40705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9"/>
          <p:cNvSpPr/>
          <p:nvPr/>
        </p:nvSpPr>
        <p:spPr>
          <a:xfrm>
            <a:off x="7164360" y="60148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50"/>
          <p:cNvSpPr/>
          <p:nvPr/>
        </p:nvSpPr>
        <p:spPr>
          <a:xfrm>
            <a:off x="7164360" y="47196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51"/>
          <p:cNvSpPr/>
          <p:nvPr/>
        </p:nvSpPr>
        <p:spPr>
          <a:xfrm>
            <a:off x="7164360" y="5367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WordArt 52"/>
          <p:cNvSpPr txBox="1"/>
          <p:nvPr/>
        </p:nvSpPr>
        <p:spPr>
          <a:xfrm>
            <a:off x="644364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7" name="WordArt 53"/>
          <p:cNvSpPr txBox="1"/>
          <p:nvPr/>
        </p:nvSpPr>
        <p:spPr>
          <a:xfrm>
            <a:off x="2124000" y="148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54"/>
          <p:cNvSpPr txBox="1"/>
          <p:nvPr/>
        </p:nvSpPr>
        <p:spPr>
          <a:xfrm>
            <a:off x="212400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55"/>
          <p:cNvSpPr txBox="1"/>
          <p:nvPr/>
        </p:nvSpPr>
        <p:spPr>
          <a:xfrm>
            <a:off x="6443640" y="2131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56"/>
          <p:cNvSpPr txBox="1"/>
          <p:nvPr/>
        </p:nvSpPr>
        <p:spPr>
          <a:xfrm>
            <a:off x="644364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57"/>
          <p:cNvSpPr txBox="1"/>
          <p:nvPr/>
        </p:nvSpPr>
        <p:spPr>
          <a:xfrm>
            <a:off x="2124000" y="27795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2" name="WordArt 58"/>
          <p:cNvSpPr txBox="1"/>
          <p:nvPr/>
        </p:nvSpPr>
        <p:spPr>
          <a:xfrm>
            <a:off x="6445080" y="342252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3" name="WordArt 59"/>
          <p:cNvSpPr txBox="1"/>
          <p:nvPr/>
        </p:nvSpPr>
        <p:spPr>
          <a:xfrm>
            <a:off x="2124000" y="34225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4" name="WordArt 60"/>
          <p:cNvSpPr txBox="1"/>
          <p:nvPr/>
        </p:nvSpPr>
        <p:spPr>
          <a:xfrm>
            <a:off x="2124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5" name="WordArt 61"/>
          <p:cNvSpPr txBox="1"/>
          <p:nvPr/>
        </p:nvSpPr>
        <p:spPr>
          <a:xfrm>
            <a:off x="644364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62"/>
          <p:cNvSpPr txBox="1"/>
          <p:nvPr/>
        </p:nvSpPr>
        <p:spPr>
          <a:xfrm>
            <a:off x="644364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7" name="WordArt 63"/>
          <p:cNvSpPr txBox="1"/>
          <p:nvPr/>
        </p:nvSpPr>
        <p:spPr>
          <a:xfrm>
            <a:off x="2125800" y="47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8" name="WordArt 64"/>
          <p:cNvSpPr txBox="1"/>
          <p:nvPr/>
        </p:nvSpPr>
        <p:spPr>
          <a:xfrm>
            <a:off x="212400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9" name="WordArt 65"/>
          <p:cNvSpPr txBox="1"/>
          <p:nvPr/>
        </p:nvSpPr>
        <p:spPr>
          <a:xfrm>
            <a:off x="6443640" y="5372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0" name="WordArt 66"/>
          <p:cNvSpPr txBox="1"/>
          <p:nvPr/>
        </p:nvSpPr>
        <p:spPr>
          <a:xfrm>
            <a:off x="644364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21" name="WordArt 67"/>
          <p:cNvSpPr txBox="1"/>
          <p:nvPr/>
        </p:nvSpPr>
        <p:spPr>
          <a:xfrm>
            <a:off x="2124000" y="6019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2" name="Picture 70" descr=""/>
          <p:cNvPicPr/>
          <p:nvPr/>
        </p:nvPicPr>
        <p:blipFill>
          <a:blip r:embed="rId1"/>
          <a:stretch/>
        </p:blipFill>
        <p:spPr>
          <a:xfrm>
            <a:off x="7524720" y="393696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2239E-006 L 0.27569 -0.00509 E">
                                      <p:cBhvr>
                                        <p:cTn id="1896" dur="20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4561E-006 L 0.21267 -0.00509 E">
                                      <p:cBhvr>
                                        <p:cTn id="1901" dur="20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90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3117E-006 L -0.29114 0.00555 E">
                                      <p:cBhvr>
                                        <p:cTn id="1906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1" dur="2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913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4792E-006 L 0.18125 -0.00509 E">
                                      <p:cBhvr>
                                        <p:cTn id="1916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82886E-006 L 0.14948 -0.00508 E">
                                      <p:cBhvr>
                                        <p:cTn id="192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2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923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2192E-006 L 0.25782 -0.00555 E">
                                      <p:cBhvr>
                                        <p:cTn id="1926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7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1928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01758E-006 L 0.21267 -0.00486 E">
                                      <p:cBhvr>
                                        <p:cTn id="1931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933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49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57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96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973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…рен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…ви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гот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…щад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…рчи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мер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28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716580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147492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1474920" y="27874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716436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716436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7164360" y="602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147636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716436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53"/>
          <p:cNvSpPr txBox="1"/>
          <p:nvPr/>
        </p:nvSpPr>
        <p:spPr>
          <a:xfrm>
            <a:off x="212400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7" name="WordArt 57"/>
          <p:cNvSpPr txBox="1"/>
          <p:nvPr/>
        </p:nvSpPr>
        <p:spPr>
          <a:xfrm>
            <a:off x="212400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58"/>
          <p:cNvSpPr txBox="1"/>
          <p:nvPr/>
        </p:nvSpPr>
        <p:spPr>
          <a:xfrm>
            <a:off x="6445080" y="34290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9" name="WordArt 59"/>
          <p:cNvSpPr txBox="1"/>
          <p:nvPr/>
        </p:nvSpPr>
        <p:spPr>
          <a:xfrm>
            <a:off x="2124000" y="3429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0" name="WordArt 60"/>
          <p:cNvSpPr txBox="1"/>
          <p:nvPr/>
        </p:nvSpPr>
        <p:spPr>
          <a:xfrm>
            <a:off x="212400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2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3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4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5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6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7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68" name="Picture 68" descr=""/>
          <p:cNvPicPr/>
          <p:nvPr/>
        </p:nvPicPr>
        <p:blipFill>
          <a:blip r:embed="rId1"/>
          <a:stretch/>
        </p:blipFill>
        <p:spPr>
          <a:xfrm>
            <a:off x="-108000" y="141300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1998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4699E-006 L 0.18125 0.0044 E">
                                      <p:cBhvr>
                                        <p:cTn id="2001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2" restart="whenNotActive" nodeType="interactiveSeq" fill="hold">
                <p:stCondLst>
                  <p:cond evt="onClick">
                    <p:tgtEl>
                      <p:spTgt spid="955"/>
                    </p:tgtEl>
                  </p:cond>
                </p:stCondLst>
                <p:childTnLst>
                  <p:par>
                    <p:cTn id="2003" fill="hold">
                      <p:stCondLst>
                        <p:cond evt="onClick">
                          <p:tgtEl>
                            <p:spTgt spid="955"/>
                          </p:tgtEl>
                        </p:cond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7552 0.00463 E">
                                      <p:cBhvr>
                                        <p:cTn id="2006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2008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7552 -0.00602 E">
                                      <p:cBhvr>
                                        <p:cTn id="2011" dur="2000" fill="hold"/>
                                        <p:tgtEl>
                                          <p:spTgt spid="9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5301E-007 L 0.19687 -0.00509 E">
                                      <p:cBhvr>
                                        <p:cTn id="201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7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018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2146E-006 L 0.19687 -0.00601 E">
                                      <p:cBhvr>
                                        <p:cTn id="2021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2026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7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2028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15764 -0.00602 E">
                                      <p:cBhvr>
                                        <p:cTn id="2031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1267 -0.00578 E">
                                      <p:cBhvr>
                                        <p:cTn id="2036" dur="2000" fill="hold"/>
                                        <p:tgtEl>
                                          <p:spTgt spid="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7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38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5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2046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3" restart="whenNotActive" nodeType="interactiveSeq" fill="hold">
                <p:stCondLst>
                  <p:cond evt="onClick">
                    <p:tgtEl>
                      <p:spTgt spid="957"/>
                    </p:tgtEl>
                  </p:cond>
                </p:stCondLst>
                <p:childTnLst>
                  <p:par>
                    <p:cTn id="2054" fill="hold">
                      <p:stCondLst>
                        <p:cond evt="onClick">
                          <p:tgtEl>
                            <p:spTgt spid="957"/>
                          </p:tgtEl>
                        </p:cond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1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062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963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963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086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3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094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7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2843280" y="147960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…лн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р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лз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т…п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…в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4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6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7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8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9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0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1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42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43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4"/>
          <p:cNvSpPr/>
          <p:nvPr/>
        </p:nvSpPr>
        <p:spPr>
          <a:xfrm>
            <a:off x="7165800" y="15508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5"/>
          <p:cNvSpPr/>
          <p:nvPr/>
        </p:nvSpPr>
        <p:spPr>
          <a:xfrm>
            <a:off x="7164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6"/>
          <p:cNvSpPr/>
          <p:nvPr/>
        </p:nvSpPr>
        <p:spPr>
          <a:xfrm>
            <a:off x="716436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7"/>
          <p:cNvSpPr/>
          <p:nvPr/>
        </p:nvSpPr>
        <p:spPr>
          <a:xfrm>
            <a:off x="147492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8"/>
          <p:cNvSpPr/>
          <p:nvPr/>
        </p:nvSpPr>
        <p:spPr>
          <a:xfrm>
            <a:off x="7164360" y="4143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9"/>
          <p:cNvSpPr/>
          <p:nvPr/>
        </p:nvSpPr>
        <p:spPr>
          <a:xfrm>
            <a:off x="7164360" y="60879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50"/>
          <p:cNvSpPr/>
          <p:nvPr/>
        </p:nvSpPr>
        <p:spPr>
          <a:xfrm>
            <a:off x="1476360" y="47912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1"/>
          <p:cNvSpPr/>
          <p:nvPr/>
        </p:nvSpPr>
        <p:spPr>
          <a:xfrm>
            <a:off x="7164360" y="5440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53"/>
          <p:cNvSpPr txBox="1"/>
          <p:nvPr/>
        </p:nvSpPr>
        <p:spPr>
          <a:xfrm>
            <a:off x="212400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2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57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4" name="WordArt 58"/>
          <p:cNvSpPr txBox="1"/>
          <p:nvPr/>
        </p:nvSpPr>
        <p:spPr>
          <a:xfrm>
            <a:off x="6445080" y="349560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5" name="WordArt 59"/>
          <p:cNvSpPr txBox="1"/>
          <p:nvPr/>
        </p:nvSpPr>
        <p:spPr>
          <a:xfrm>
            <a:off x="2124000" y="34956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6" name="WordArt 60"/>
          <p:cNvSpPr txBox="1"/>
          <p:nvPr/>
        </p:nvSpPr>
        <p:spPr>
          <a:xfrm>
            <a:off x="212400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8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9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0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1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3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14" name="Picture 68" descr=""/>
          <p:cNvPicPr/>
          <p:nvPr/>
        </p:nvPicPr>
        <p:blipFill>
          <a:blip r:embed="rId1"/>
          <a:stretch/>
        </p:blipFill>
        <p:spPr>
          <a:xfrm>
            <a:off x="7608960" y="76500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restart="whenNotActive" nodeType="interactiveSeq" fill="hold">
                <p:stCondLst>
                  <p:cond evt="onClick">
                    <p:tgtEl>
                      <p:spTgt spid="999"/>
                    </p:tgtEl>
                  </p:cond>
                </p:stCondLst>
                <p:childTnLst>
                  <p:par>
                    <p:cTn id="2103" fill="hold">
                      <p:stCondLst>
                        <p:cond evt="onClick">
                          <p:tgtEl>
                            <p:spTgt spid="999"/>
                          </p:tgtEl>
                        </p:cond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451E-006 L 0.22066 0.00532 E">
                                      <p:cBhvr>
                                        <p:cTn id="2106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1000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1000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11" dur="200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113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22066 -0.00509 E">
                                      <p:cBhvr>
                                        <p:cTn id="2116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1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90379E-006 L -0.2599 0.00602 E">
                                      <p:cBhvr>
                                        <p:cTn id="2121" dur="2000" fill="hold"/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2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123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95005E-006 L 0.18906 -0.00532 E">
                                      <p:cBhvr>
                                        <p:cTn id="212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7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128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31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2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2133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3515E-007 L 0.23628 0.00532 E">
                                      <p:cBhvr>
                                        <p:cTn id="2136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7" restart="whenNotActive" nodeType="interactiveSeq" fill="hold">
                <p:stCondLst>
                  <p:cond evt="onClick">
                    <p:tgtEl>
                      <p:spTgt spid="998"/>
                    </p:tgtEl>
                  </p:cond>
                </p:stCondLst>
                <p:childTnLst>
                  <p:par>
                    <p:cTn id="2138" fill="hold">
                      <p:stCondLst>
                        <p:cond evt="onClick">
                          <p:tgtEl>
                            <p:spTgt spid="998"/>
                          </p:tgtEl>
                        </p:cond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5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2146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1002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1002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162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9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170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7" restart="whenNotActive" nodeType="interactiveSeq" fill="hold">
                <p:stCondLst>
                  <p:cond evt="onClick">
                    <p:tgtEl>
                      <p:spTgt spid="1009"/>
                    </p:tgtEl>
                  </p:cond>
                </p:stCondLst>
                <p:childTnLst>
                  <p:par>
                    <p:cTn id="2178" fill="hold">
                      <p:stCondLst>
                        <p:cond evt="onClick">
                          <p:tgtEl>
                            <p:spTgt spid="1009"/>
                          </p:tgtEl>
                        </p:cond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5" restart="whenNotActive" nodeType="interactiveSeq" fill="hold">
                <p:stCondLst>
                  <p:cond evt="onClick">
                    <p:tgtEl>
                      <p:spTgt spid="1011"/>
                    </p:tgtEl>
                  </p:cond>
                </p:stCondLst>
                <p:childTnLst>
                  <p:par>
                    <p:cTn id="2186" fill="hold">
                      <p:stCondLst>
                        <p:cond evt="onClick">
                          <p:tgtEl>
                            <p:spTgt spid="1011"/>
                          </p:tgtEl>
                        </p:cond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3" restart="whenNotActive" nodeType="interactiveSeq" fill="hold">
                <p:stCondLst>
                  <p:cond evt="onClick">
                    <p:tgtEl>
                      <p:spTgt spid="1012"/>
                    </p:tgtEl>
                  </p:cond>
                </p:stCondLst>
                <p:childTnLst>
                  <p:par>
                    <p:cTn id="2194" fill="hold">
                      <p:stCondLst>
                        <p:cond evt="onClick">
                          <p:tgtEl>
                            <p:spTgt spid="1012"/>
                          </p:tgtEl>
                        </p:cond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1013"/>
                    </p:tgtEl>
                  </p:cond>
                </p:stCondLst>
                <p:childTnLst>
                  <p:par>
                    <p:cTn id="2202" fill="hold">
                      <p:stCondLst>
                        <p:cond evt="onClick">
                          <p:tgtEl>
                            <p:spTgt spid="1013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05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8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…ж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р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…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ж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…рц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…чёв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20" name="Rectangle 29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5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7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8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9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0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1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2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3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45"/>
          <p:cNvSpPr/>
          <p:nvPr/>
        </p:nvSpPr>
        <p:spPr>
          <a:xfrm>
            <a:off x="7165800" y="155592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46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47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48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49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50"/>
          <p:cNvSpPr/>
          <p:nvPr/>
        </p:nvSpPr>
        <p:spPr>
          <a:xfrm>
            <a:off x="716436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51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52"/>
          <p:cNvSpPr/>
          <p:nvPr/>
        </p:nvSpPr>
        <p:spPr>
          <a:xfrm>
            <a:off x="7164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53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54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55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56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8" name="WordArt 57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58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0" name="WordArt 59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1" name="WordArt 60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61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3" name="WordArt 62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4" name="WordArt 63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5" name="WordArt 64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6" name="WordArt 65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WordArt 66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8" name="WordArt 67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59" name="WordArt 68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060" name="Picture 69" descr=""/>
          <p:cNvPicPr/>
          <p:nvPr/>
        </p:nvPicPr>
        <p:blipFill>
          <a:blip r:embed="rId1"/>
          <a:stretch/>
        </p:blipFill>
        <p:spPr>
          <a:xfrm>
            <a:off x="-84240" y="126828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208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521E-007 L 0.22066 0.00463 E">
                                      <p:cBhvr>
                                        <p:cTn id="2211" dur="20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2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213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216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2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2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223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3629 -0.00509 E">
                                      <p:cBhvr>
                                        <p:cTn id="222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7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228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2847 0.00463 E">
                                      <p:cBhvr>
                                        <p:cTn id="2231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2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233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31475 0.00462 E">
                                      <p:cBhvr>
                                        <p:cTn id="2236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7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238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0555E-006 L 0.21267 0.00463 E">
                                      <p:cBhvr>
                                        <p:cTn id="22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2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243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251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8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259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267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4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275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2283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8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299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8233E-006 L 0.19687 -0.00578 E">
                                      <p:cBhvr>
                                        <p:cTn id="230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304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341964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2843280" y="1484280"/>
          <a:ext cx="3311280" cy="512136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…ч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…ч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…вщ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…бр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д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…ви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…пл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руш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66" name="Rectangle 28"/>
          <p:cNvSpPr/>
          <p:nvPr/>
        </p:nvSpPr>
        <p:spPr>
          <a:xfrm>
            <a:off x="1332000" y="213984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29"/>
          <p:cNvSpPr/>
          <p:nvPr/>
        </p:nvSpPr>
        <p:spPr>
          <a:xfrm>
            <a:off x="133200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0"/>
          <p:cNvSpPr/>
          <p:nvPr/>
        </p:nvSpPr>
        <p:spPr>
          <a:xfrm>
            <a:off x="1332000" y="2787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1"/>
          <p:cNvSpPr/>
          <p:nvPr/>
        </p:nvSpPr>
        <p:spPr>
          <a:xfrm>
            <a:off x="1332000" y="34336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2"/>
          <p:cNvSpPr/>
          <p:nvPr/>
        </p:nvSpPr>
        <p:spPr>
          <a:xfrm>
            <a:off x="1332000" y="40831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3"/>
          <p:cNvSpPr/>
          <p:nvPr/>
        </p:nvSpPr>
        <p:spPr>
          <a:xfrm>
            <a:off x="1332000" y="4732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4"/>
          <p:cNvSpPr/>
          <p:nvPr/>
        </p:nvSpPr>
        <p:spPr>
          <a:xfrm>
            <a:off x="1332000" y="53802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5"/>
          <p:cNvSpPr/>
          <p:nvPr/>
        </p:nvSpPr>
        <p:spPr>
          <a:xfrm>
            <a:off x="1332000" y="60278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6"/>
          <p:cNvSpPr/>
          <p:nvPr/>
        </p:nvSpPr>
        <p:spPr>
          <a:xfrm>
            <a:off x="6299280" y="1488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7"/>
          <p:cNvSpPr/>
          <p:nvPr/>
        </p:nvSpPr>
        <p:spPr>
          <a:xfrm>
            <a:off x="6299280" y="2136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8"/>
          <p:cNvSpPr/>
          <p:nvPr/>
        </p:nvSpPr>
        <p:spPr>
          <a:xfrm>
            <a:off x="6299280" y="278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9"/>
          <p:cNvSpPr/>
          <p:nvPr/>
        </p:nvSpPr>
        <p:spPr>
          <a:xfrm>
            <a:off x="6299280" y="34322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0"/>
          <p:cNvSpPr/>
          <p:nvPr/>
        </p:nvSpPr>
        <p:spPr>
          <a:xfrm>
            <a:off x="6299280" y="4081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1"/>
          <p:cNvSpPr/>
          <p:nvPr/>
        </p:nvSpPr>
        <p:spPr>
          <a:xfrm>
            <a:off x="6299280" y="4729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299280" y="53769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3"/>
          <p:cNvSpPr/>
          <p:nvPr/>
        </p:nvSpPr>
        <p:spPr>
          <a:xfrm>
            <a:off x="6299280" y="602460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4"/>
          <p:cNvSpPr/>
          <p:nvPr/>
        </p:nvSpPr>
        <p:spPr>
          <a:xfrm>
            <a:off x="1476360" y="155736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5"/>
          <p:cNvSpPr/>
          <p:nvPr/>
        </p:nvSpPr>
        <p:spPr>
          <a:xfrm>
            <a:off x="1474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6"/>
          <p:cNvSpPr/>
          <p:nvPr/>
        </p:nvSpPr>
        <p:spPr>
          <a:xfrm>
            <a:off x="7164360" y="28576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7"/>
          <p:cNvSpPr/>
          <p:nvPr/>
        </p:nvSpPr>
        <p:spPr>
          <a:xfrm>
            <a:off x="1474920" y="35053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8"/>
          <p:cNvSpPr/>
          <p:nvPr/>
        </p:nvSpPr>
        <p:spPr>
          <a:xfrm>
            <a:off x="7164360" y="4148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50"/>
          <p:cNvSpPr/>
          <p:nvPr/>
        </p:nvSpPr>
        <p:spPr>
          <a:xfrm>
            <a:off x="1476360" y="479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5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WordArt 52"/>
          <p:cNvSpPr txBox="1"/>
          <p:nvPr/>
        </p:nvSpPr>
        <p:spPr>
          <a:xfrm>
            <a:off x="644364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53"/>
          <p:cNvSpPr txBox="1"/>
          <p:nvPr/>
        </p:nvSpPr>
        <p:spPr>
          <a:xfrm>
            <a:off x="2124000" y="156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54"/>
          <p:cNvSpPr txBox="1"/>
          <p:nvPr/>
        </p:nvSpPr>
        <p:spPr>
          <a:xfrm>
            <a:off x="212400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3" name="WordArt 55"/>
          <p:cNvSpPr txBox="1"/>
          <p:nvPr/>
        </p:nvSpPr>
        <p:spPr>
          <a:xfrm>
            <a:off x="6443640" y="2209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4" name="WordArt 56"/>
          <p:cNvSpPr txBox="1"/>
          <p:nvPr/>
        </p:nvSpPr>
        <p:spPr>
          <a:xfrm>
            <a:off x="644364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5" name="WordArt 57"/>
          <p:cNvSpPr txBox="1"/>
          <p:nvPr/>
        </p:nvSpPr>
        <p:spPr>
          <a:xfrm>
            <a:off x="2124000" y="285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6" name="WordArt 58"/>
          <p:cNvSpPr txBox="1"/>
          <p:nvPr/>
        </p:nvSpPr>
        <p:spPr>
          <a:xfrm>
            <a:off x="6445080" y="3500280"/>
            <a:ext cx="2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59"/>
          <p:cNvSpPr txBox="1"/>
          <p:nvPr/>
        </p:nvSpPr>
        <p:spPr>
          <a:xfrm>
            <a:off x="2124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8" name="WordArt 60"/>
          <p:cNvSpPr txBox="1"/>
          <p:nvPr/>
        </p:nvSpPr>
        <p:spPr>
          <a:xfrm>
            <a:off x="212400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99" name="WordArt 61"/>
          <p:cNvSpPr txBox="1"/>
          <p:nvPr/>
        </p:nvSpPr>
        <p:spPr>
          <a:xfrm>
            <a:off x="6443640" y="4154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0" name="WordArt 62"/>
          <p:cNvSpPr txBox="1"/>
          <p:nvPr/>
        </p:nvSpPr>
        <p:spPr>
          <a:xfrm>
            <a:off x="644364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1" name="WordArt 63"/>
          <p:cNvSpPr txBox="1"/>
          <p:nvPr/>
        </p:nvSpPr>
        <p:spPr>
          <a:xfrm>
            <a:off x="2125800" y="4802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WordArt 64"/>
          <p:cNvSpPr txBox="1"/>
          <p:nvPr/>
        </p:nvSpPr>
        <p:spPr>
          <a:xfrm>
            <a:off x="212400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3" name="WordArt 65"/>
          <p:cNvSpPr txBox="1"/>
          <p:nvPr/>
        </p:nvSpPr>
        <p:spPr>
          <a:xfrm>
            <a:off x="6443640" y="5450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4" name="WordArt 66"/>
          <p:cNvSpPr txBox="1"/>
          <p:nvPr/>
        </p:nvSpPr>
        <p:spPr>
          <a:xfrm>
            <a:off x="644364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05" name="WordArt 67"/>
          <p:cNvSpPr txBox="1"/>
          <p:nvPr/>
        </p:nvSpPr>
        <p:spPr>
          <a:xfrm>
            <a:off x="2124000" y="6097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106" name="Picture 68" descr=""/>
          <p:cNvPicPr/>
          <p:nvPr/>
        </p:nvPicPr>
        <p:blipFill>
          <a:blip r:embed="rId1"/>
          <a:stretch/>
        </p:blipFill>
        <p:spPr>
          <a:xfrm>
            <a:off x="7493040" y="408132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restart="whenNotActive" nodeType="interactiveSeq" fill="hold">
                <p:stCondLst>
                  <p:cond evt="onClick">
                    <p:tgtEl>
                      <p:spTgt spid="1090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1090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7521E-007 L -0.24392 0.00463 E">
                                      <p:cBhvr>
                                        <p:cTn id="2316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7" restart="whenNotActive" nodeType="interactiveSeq" fill="hold">
                <p:stCondLst>
                  <p:cond evt="onClick">
                    <p:tgtEl>
                      <p:spTgt spid="1093"/>
                    </p:tgtEl>
                  </p:cond>
                </p:stCondLst>
                <p:childTnLst>
                  <p:par>
                    <p:cTn id="2318" fill="hold">
                      <p:stCondLst>
                        <p:cond evt="onClick">
                          <p:tgtEl>
                            <p:spTgt spid="1093"/>
                          </p:tgtEl>
                        </p:cond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457E-006 L -0.27552 -0.00578 E">
                                      <p:cBhvr>
                                        <p:cTn id="23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323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3108E-006 L 0.22847 0.00463 E">
                                      <p:cBhvr>
                                        <p:cTn id="2326" dur="2000" fill="hold"/>
                                        <p:tgtEl>
                                          <p:spTgt spid="10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328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9417E-006 L -0.28351 0.00532 E">
                                      <p:cBhvr>
                                        <p:cTn id="2331" dur="2000" fill="hold"/>
                                        <p:tgtEl>
                                          <p:spTgt spid="10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2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333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20486 0.00463 E">
                                      <p:cBhvr>
                                        <p:cTn id="2336" dur="2000" fill="hold"/>
                                        <p:tgtEl>
                                          <p:spTgt spid="10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1100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1100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7123E-006 L -0.29114 -0.00578 E">
                                      <p:cBhvr>
                                        <p:cTn id="2341" dur="2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2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343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0555E-006 L -0.29114 -0.00578 E">
                                      <p:cBhvr>
                                        <p:cTn id="2346" dur="2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348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08233E-006 L -0.28333 -0.00578 E">
                                      <p:cBhvr>
                                        <p:cTn id="2351" dur="20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2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353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361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8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2369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2377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4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385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2393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1105"/>
                    </p:tgtEl>
                  </p:cond>
                </p:stCondLst>
                <p:childTnLst>
                  <p:par>
                    <p:cTn id="2409" fill="hold">
                      <p:stCondLst>
                        <p:cond evt="onClick">
                          <p:tgtEl>
                            <p:spTgt spid="1105"/>
                          </p:tgtEl>
                        </p:cond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сы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1. Зегебард Г.М. «Учение без мучения. Безударные гласные. Коррекция дисграфии. Рабочие материалы. 3 класс» М.: Генезис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116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- винип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119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у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091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Питер 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5. 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//ont2007.narod.ru/GIF/gif/4/0</a:t>
            </a: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</a:rPr>
              <a:t>096</a:t>
            </a: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</a:rPr>
              <a:t>.GIF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 - белосне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previousslide"/>
          </p:cNvPr>
          <p:cNvSpPr/>
          <p:nvPr/>
        </p:nvSpPr>
        <p:spPr>
          <a:xfrm>
            <a:off x="108000" y="602136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987640" y="1479600"/>
          <a:ext cx="3168720" cy="512136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…с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шнё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р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реж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г…б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кольщ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…л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0" name="Rectangle 29"/>
          <p:cNvSpPr/>
          <p:nvPr/>
        </p:nvSpPr>
        <p:spPr>
          <a:xfrm>
            <a:off x="140328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1403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140328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140328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3"/>
          <p:cNvSpPr/>
          <p:nvPr/>
        </p:nvSpPr>
        <p:spPr>
          <a:xfrm>
            <a:off x="140328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140328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140328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6"/>
          <p:cNvSpPr/>
          <p:nvPr/>
        </p:nvSpPr>
        <p:spPr>
          <a:xfrm>
            <a:off x="140328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629928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8"/>
          <p:cNvSpPr/>
          <p:nvPr/>
        </p:nvSpPr>
        <p:spPr>
          <a:xfrm>
            <a:off x="6299280" y="21319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6299280" y="27795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0"/>
          <p:cNvSpPr/>
          <p:nvPr/>
        </p:nvSpPr>
        <p:spPr>
          <a:xfrm>
            <a:off x="6299280" y="342756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6299280" y="40766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6299280" y="472428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>
            <a:off x="6299280" y="5372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>
            <a:off x="6299280" y="60199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5"/>
          <p:cNvSpPr/>
          <p:nvPr/>
        </p:nvSpPr>
        <p:spPr>
          <a:xfrm>
            <a:off x="716436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6"/>
          <p:cNvSpPr/>
          <p:nvPr/>
        </p:nvSpPr>
        <p:spPr>
          <a:xfrm>
            <a:off x="716292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16192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164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9"/>
          <p:cNvSpPr/>
          <p:nvPr/>
        </p:nvSpPr>
        <p:spPr>
          <a:xfrm>
            <a:off x="1547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0"/>
          <p:cNvSpPr/>
          <p:nvPr/>
        </p:nvSpPr>
        <p:spPr>
          <a:xfrm>
            <a:off x="154764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1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2"/>
          <p:cNvSpPr/>
          <p:nvPr/>
        </p:nvSpPr>
        <p:spPr>
          <a:xfrm>
            <a:off x="154764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53"/>
          <p:cNvSpPr txBox="1"/>
          <p:nvPr/>
        </p:nvSpPr>
        <p:spPr>
          <a:xfrm>
            <a:off x="2195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54"/>
          <p:cNvSpPr txBox="1"/>
          <p:nvPr/>
        </p:nvSpPr>
        <p:spPr>
          <a:xfrm>
            <a:off x="651528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5"/>
          <p:cNvSpPr txBox="1"/>
          <p:nvPr/>
        </p:nvSpPr>
        <p:spPr>
          <a:xfrm>
            <a:off x="2195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56"/>
          <p:cNvSpPr txBox="1"/>
          <p:nvPr/>
        </p:nvSpPr>
        <p:spPr>
          <a:xfrm>
            <a:off x="651528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58"/>
          <p:cNvSpPr txBox="1"/>
          <p:nvPr/>
        </p:nvSpPr>
        <p:spPr>
          <a:xfrm>
            <a:off x="651528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59"/>
          <p:cNvSpPr txBox="1"/>
          <p:nvPr/>
        </p:nvSpPr>
        <p:spPr>
          <a:xfrm>
            <a:off x="2197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60"/>
          <p:cNvSpPr txBox="1"/>
          <p:nvPr/>
        </p:nvSpPr>
        <p:spPr>
          <a:xfrm>
            <a:off x="65152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61"/>
          <p:cNvSpPr txBox="1"/>
          <p:nvPr/>
        </p:nvSpPr>
        <p:spPr>
          <a:xfrm>
            <a:off x="65152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62"/>
          <p:cNvSpPr txBox="1"/>
          <p:nvPr/>
        </p:nvSpPr>
        <p:spPr>
          <a:xfrm>
            <a:off x="2195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3"/>
          <p:cNvSpPr txBox="1"/>
          <p:nvPr/>
        </p:nvSpPr>
        <p:spPr>
          <a:xfrm>
            <a:off x="65152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64"/>
          <p:cNvSpPr txBox="1"/>
          <p:nvPr/>
        </p:nvSpPr>
        <p:spPr>
          <a:xfrm>
            <a:off x="219708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5"/>
          <p:cNvSpPr txBox="1"/>
          <p:nvPr/>
        </p:nvSpPr>
        <p:spPr>
          <a:xfrm>
            <a:off x="2195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66"/>
          <p:cNvSpPr txBox="1"/>
          <p:nvPr/>
        </p:nvSpPr>
        <p:spPr>
          <a:xfrm>
            <a:off x="651528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67"/>
          <p:cNvSpPr txBox="1"/>
          <p:nvPr/>
        </p:nvSpPr>
        <p:spPr>
          <a:xfrm>
            <a:off x="21970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68"/>
          <p:cNvSpPr txBox="1"/>
          <p:nvPr/>
        </p:nvSpPr>
        <p:spPr>
          <a:xfrm>
            <a:off x="651528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0" name="Picture 74" descr=""/>
          <p:cNvPicPr/>
          <p:nvPr/>
        </p:nvPicPr>
        <p:blipFill>
          <a:blip r:embed="rId1"/>
          <a:stretch/>
        </p:blipFill>
        <p:spPr>
          <a:xfrm>
            <a:off x="-36360" y="3862440"/>
            <a:ext cx="1560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186E-006 L 0.20486 -0.00509 E">
                                      <p:cBhvr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55227E-006 L 0.15764 -0.00508 E">
                                      <p:cBhvr>
                                        <p:cTn id="11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29047E-007 L -0.27535 -0.00509 E">
                                      <p:cBhvr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9417E-006 L 0.21268 -0.00509 E">
                                      <p:cBhvr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2673E-006 L 0.21268 -0.00508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3515E-007 L -0.31476 -0.00509 E">
                                      <p:cBhvr>
                                        <p:cTn id="14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197E-006 L -0.22032 0.00532 E"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…д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…р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…желово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м…ёны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…щ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в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…ну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…п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6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7093080" y="1555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147636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7"/>
          <p:cNvSpPr/>
          <p:nvPr/>
        </p:nvSpPr>
        <p:spPr>
          <a:xfrm>
            <a:off x="709308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8"/>
          <p:cNvSpPr/>
          <p:nvPr/>
        </p:nvSpPr>
        <p:spPr>
          <a:xfrm>
            <a:off x="14763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9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0"/>
          <p:cNvSpPr/>
          <p:nvPr/>
        </p:nvSpPr>
        <p:spPr>
          <a:xfrm>
            <a:off x="709128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2"/>
          <p:cNvSpPr txBox="1"/>
          <p:nvPr/>
        </p:nvSpPr>
        <p:spPr>
          <a:xfrm>
            <a:off x="212400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53"/>
          <p:cNvSpPr txBox="1"/>
          <p:nvPr/>
        </p:nvSpPr>
        <p:spPr>
          <a:xfrm>
            <a:off x="6443640" y="15559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56"/>
          <p:cNvSpPr txBox="1"/>
          <p:nvPr/>
        </p:nvSpPr>
        <p:spPr>
          <a:xfrm>
            <a:off x="212400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0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Picture 72" descr=""/>
          <p:cNvPicPr/>
          <p:nvPr/>
        </p:nvPicPr>
        <p:blipFill>
          <a:blip r:embed="rId1"/>
          <a:stretch/>
        </p:blipFill>
        <p:spPr>
          <a:xfrm>
            <a:off x="7493040" y="3429000"/>
            <a:ext cx="1616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79186E-006 L 0.17326 0.00555 E">
                                      <p:cBhvr>
                                        <p:cTn id="21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5227E-006 L -0.20451 0.00532 E">
                                      <p:cBhvr>
                                        <p:cTn id="2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29047E-007 L 0.14965 0.00532 E">
                                      <p:cBhvr>
                                        <p:cTn id="22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9417E-006 L 0.20469 0.00532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4392 0.00532 E">
                                      <p:cBhvr>
                                        <p:cTn id="2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26771 0.00532 E">
                                      <p:cBhvr>
                                        <p:cTn id="24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23611 -0.00509 E">
                                      <p:cBhvr>
                                        <p:cTn id="24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19687 -0.00509 E">
                                      <p:cBhvr>
                                        <p:cTn id="25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274920" y="907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мн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ш…в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…р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…х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н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рдеч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…рка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…стов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2" name="Rectangle 28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709308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8"/>
          <p:cNvSpPr/>
          <p:nvPr/>
        </p:nvSpPr>
        <p:spPr>
          <a:xfrm>
            <a:off x="709128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9"/>
          <p:cNvSpPr/>
          <p:nvPr/>
        </p:nvSpPr>
        <p:spPr>
          <a:xfrm>
            <a:off x="147492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0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1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52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7" name="WordArt 53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WordArt 54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WordArt 55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WordArt 56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WordArt 57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58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9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WordArt 60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61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62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7" name="WordArt 63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64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65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66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67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70" descr=""/>
          <p:cNvPicPr/>
          <p:nvPr/>
        </p:nvPicPr>
        <p:blipFill>
          <a:blip r:embed="rId1"/>
          <a:stretch/>
        </p:blipFill>
        <p:spPr>
          <a:xfrm>
            <a:off x="-108000" y="1557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8333 -0.00532 E">
                                      <p:cBhvr>
                                        <p:cTn id="32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26788 0.00532 E">
                                      <p:cBhvr>
                                        <p:cTn id="32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4392 -0.00509 E">
                                      <p:cBhvr>
                                        <p:cTn id="33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5005E-006 L 0.15747 0.00532 E">
                                      <p:cBhvr>
                                        <p:cTn id="33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33055 0.00532 E">
                                      <p:cBhvr>
                                        <p:cTn id="34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3515E-007 L -0.33837 -0.00509 E">
                                      <p:cBhvr>
                                        <p:cTn id="3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7197E-006 L -0.29913 0.00532 E">
                                      <p:cBhvr>
                                        <p:cTn id="351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29047E-007 L 0.22066 -0.00509 E">
                                      <p:cBhvr>
                                        <p:cTn id="36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7492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16360" y="1479600"/>
          <a:ext cx="3168360" cy="512136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…ч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…ло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…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…льш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г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…зд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…те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8" name="Rectangle 29"/>
          <p:cNvSpPr/>
          <p:nvPr/>
        </p:nvSpPr>
        <p:spPr>
          <a:xfrm>
            <a:off x="1332000" y="213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332000" y="14842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1332000" y="278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332000" y="34290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1332000" y="407844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1332000" y="472752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1332000" y="53751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332000" y="60228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6227640" y="1484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6227640" y="21319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6227640" y="27795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227640" y="342756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227640" y="40766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227640" y="472428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227640" y="53722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6227640" y="60199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5"/>
          <p:cNvSpPr/>
          <p:nvPr/>
        </p:nvSpPr>
        <p:spPr>
          <a:xfrm>
            <a:off x="1476360" y="155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6"/>
          <p:cNvSpPr/>
          <p:nvPr/>
        </p:nvSpPr>
        <p:spPr>
          <a:xfrm>
            <a:off x="7091280" y="220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474920" y="28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476360" y="3500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47492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7093080" y="609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476360" y="4797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1476360" y="544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3"/>
          <p:cNvSpPr txBox="1"/>
          <p:nvPr/>
        </p:nvSpPr>
        <p:spPr>
          <a:xfrm>
            <a:off x="6443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3" name="WordArt 54"/>
          <p:cNvSpPr txBox="1"/>
          <p:nvPr/>
        </p:nvSpPr>
        <p:spPr>
          <a:xfrm>
            <a:off x="2195640" y="155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4" name="WordArt 55"/>
          <p:cNvSpPr txBox="1"/>
          <p:nvPr/>
        </p:nvSpPr>
        <p:spPr>
          <a:xfrm>
            <a:off x="212400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56"/>
          <p:cNvSpPr txBox="1"/>
          <p:nvPr/>
        </p:nvSpPr>
        <p:spPr>
          <a:xfrm>
            <a:off x="6443640" y="220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57"/>
          <p:cNvSpPr txBox="1"/>
          <p:nvPr/>
        </p:nvSpPr>
        <p:spPr>
          <a:xfrm>
            <a:off x="6443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58"/>
          <p:cNvSpPr txBox="1"/>
          <p:nvPr/>
        </p:nvSpPr>
        <p:spPr>
          <a:xfrm>
            <a:off x="2195640" y="2852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59"/>
          <p:cNvSpPr txBox="1"/>
          <p:nvPr/>
        </p:nvSpPr>
        <p:spPr>
          <a:xfrm>
            <a:off x="21258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WordArt 60"/>
          <p:cNvSpPr txBox="1"/>
          <p:nvPr/>
        </p:nvSpPr>
        <p:spPr>
          <a:xfrm>
            <a:off x="644364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WordArt 61"/>
          <p:cNvSpPr txBox="1"/>
          <p:nvPr/>
        </p:nvSpPr>
        <p:spPr>
          <a:xfrm>
            <a:off x="219708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1" name="WordArt 62"/>
          <p:cNvSpPr txBox="1"/>
          <p:nvPr/>
        </p:nvSpPr>
        <p:spPr>
          <a:xfrm>
            <a:off x="6443640" y="41497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WordArt 63"/>
          <p:cNvSpPr txBox="1"/>
          <p:nvPr/>
        </p:nvSpPr>
        <p:spPr>
          <a:xfrm>
            <a:off x="644364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3" name="WordArt 64"/>
          <p:cNvSpPr txBox="1"/>
          <p:nvPr/>
        </p:nvSpPr>
        <p:spPr>
          <a:xfrm>
            <a:off x="2125800" y="4797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65"/>
          <p:cNvSpPr txBox="1"/>
          <p:nvPr/>
        </p:nvSpPr>
        <p:spPr>
          <a:xfrm>
            <a:off x="212400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66"/>
          <p:cNvSpPr txBox="1"/>
          <p:nvPr/>
        </p:nvSpPr>
        <p:spPr>
          <a:xfrm>
            <a:off x="6443640" y="5445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67"/>
          <p:cNvSpPr txBox="1"/>
          <p:nvPr/>
        </p:nvSpPr>
        <p:spPr>
          <a:xfrm>
            <a:off x="644364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68"/>
          <p:cNvSpPr txBox="1"/>
          <p:nvPr/>
        </p:nvSpPr>
        <p:spPr>
          <a:xfrm>
            <a:off x="2124000" y="609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78" name="Picture 71" descr=""/>
          <p:cNvPicPr/>
          <p:nvPr/>
        </p:nvPicPr>
        <p:blipFill>
          <a:blip r:embed="rId1"/>
          <a:stretch/>
        </p:blipFill>
        <p:spPr>
          <a:xfrm>
            <a:off x="7608960" y="476280"/>
            <a:ext cx="15001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52451E-006 L -0.23611 -0.00532 E">
                                      <p:cBhvr>
                                        <p:cTn id="42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5227E-006 L 0.18125 0.00532 E">
                                      <p:cBhvr>
                                        <p:cTn id="43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29047E-007 L -0.22031 -0.00509 E">
                                      <p:cBhvr>
                                        <p:cTn id="43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9417E-006 L -0.29913 0.00532 E">
                                      <p:cBhvr>
                                        <p:cTn id="4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5005E-006 L -0.26753 -0.00532 E">
                                      <p:cBhvr>
                                        <p:cTn id="44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12673E-006 L -0.27552 0.00532 E">
                                      <p:cBhvr>
                                        <p:cTn id="45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97E-006 L 0.23628 -0.00509 E">
                                      <p:cBhvr>
                                        <p:cTn id="461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…новн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…мей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…с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…с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к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…п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4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227640" y="141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6227640" y="206532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8"/>
          <p:cNvSpPr/>
          <p:nvPr/>
        </p:nvSpPr>
        <p:spPr>
          <a:xfrm>
            <a:off x="6227640" y="271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9"/>
          <p:cNvSpPr/>
          <p:nvPr/>
        </p:nvSpPr>
        <p:spPr>
          <a:xfrm>
            <a:off x="6227640" y="336060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227640" y="401004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227640" y="4657680"/>
            <a:ext cx="136872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2"/>
          <p:cNvSpPr/>
          <p:nvPr/>
        </p:nvSpPr>
        <p:spPr>
          <a:xfrm>
            <a:off x="6227640" y="530532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3"/>
          <p:cNvSpPr/>
          <p:nvPr/>
        </p:nvSpPr>
        <p:spPr>
          <a:xfrm>
            <a:off x="6227640" y="5952960"/>
            <a:ext cx="136872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4"/>
          <p:cNvSpPr/>
          <p:nvPr/>
        </p:nvSpPr>
        <p:spPr>
          <a:xfrm>
            <a:off x="7093080" y="1484280"/>
            <a:ext cx="3585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5"/>
          <p:cNvSpPr/>
          <p:nvPr/>
        </p:nvSpPr>
        <p:spPr>
          <a:xfrm>
            <a:off x="7091280" y="21384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6"/>
          <p:cNvSpPr/>
          <p:nvPr/>
        </p:nvSpPr>
        <p:spPr>
          <a:xfrm>
            <a:off x="1474920" y="278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8"/>
          <p:cNvSpPr/>
          <p:nvPr/>
        </p:nvSpPr>
        <p:spPr>
          <a:xfrm>
            <a:off x="1474920" y="40831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76360" y="47307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709308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9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0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3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4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5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8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24" name="Picture 68" descr=""/>
          <p:cNvPicPr/>
          <p:nvPr/>
        </p:nvPicPr>
        <p:blipFill>
          <a:blip r:embed="rId1"/>
          <a:stretch/>
        </p:blipFill>
        <p:spPr>
          <a:xfrm>
            <a:off x="-108000" y="1341360"/>
            <a:ext cx="1560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4699E-006 L 0.14983 0.0044 E">
                                      <p:cBhvr>
                                        <p:cTn id="53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18125 0.00463 E">
                                      <p:cBhvr>
                                        <p:cTn id="536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6753 0.00462 E">
                                      <p:cBhvr>
                                        <p:cTn id="54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5972 0.00463 E">
                                      <p:cBhvr>
                                        <p:cTn id="54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2146E-006 L -0.24392 -0.00601 E">
                                      <p:cBhvr>
                                        <p:cTn id="55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9114 -0.00601 E">
                                      <p:cBhvr>
                                        <p:cTn id="556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02498E-006 L 0.22066 0.00462 E">
                                      <p:cBhvr>
                                        <p:cTn id="56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22847 -0.00578 E">
                                      <p:cBhvr>
                                        <p:cTn id="56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3348000" y="83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916360" y="1413000"/>
          <a:ext cx="3168360" cy="5121000"/>
        </p:xfrm>
        <a:graphic>
          <a:graphicData uri="http://schemas.openxmlformats.org/drawingml/2006/table">
            <a:tbl>
              <a:tblPr/>
              <a:tblGrid>
                <a:gridCol w="316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мёр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с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…пля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…бр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ц…пилс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…ли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…мне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…беш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0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5"/>
          <p:cNvSpPr/>
          <p:nvPr/>
        </p:nvSpPr>
        <p:spPr>
          <a:xfrm>
            <a:off x="147636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709308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48"/>
          <p:cNvSpPr/>
          <p:nvPr/>
        </p:nvSpPr>
        <p:spPr>
          <a:xfrm>
            <a:off x="709308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0"/>
          <p:cNvSpPr/>
          <p:nvPr/>
        </p:nvSpPr>
        <p:spPr>
          <a:xfrm>
            <a:off x="709308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6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7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8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59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0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1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4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Picture 68" descr=""/>
          <p:cNvPicPr/>
          <p:nvPr/>
        </p:nvPicPr>
        <p:blipFill>
          <a:blip r:embed="rId1"/>
          <a:stretch/>
        </p:blipFill>
        <p:spPr>
          <a:xfrm>
            <a:off x="7564320" y="3357720"/>
            <a:ext cx="16160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9114 0.0044 E">
                                      <p:cBhvr>
                                        <p:cTn id="63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3774E-007 L -0.28333 -0.00601 E">
                                      <p:cBhvr>
                                        <p:cTn id="641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944E-006 L 0.18906 -0.00602 E">
                                      <p:cBhvr>
                                        <p:cTn id="64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441 -0.00578 E">
                                      <p:cBhvr>
                                        <p:cTn id="651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82146E-006 L 0.18889 -0.00601 E">
                                      <p:cBhvr>
                                        <p:cTn id="65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1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6753 -0.00602 E">
                                      <p:cBhvr>
                                        <p:cTn id="66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518E-006 L 0.18906 -0.00578 E">
                                      <p:cBhvr>
                                        <p:cTn id="67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ставь нужную букв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3348000" y="765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" action="ppaction://hlinkshowjump?jump=previousslide"/>
          </p:cNvPr>
          <p:cNvSpPr/>
          <p:nvPr/>
        </p:nvSpPr>
        <p:spPr>
          <a:xfrm>
            <a:off x="108000" y="6165720"/>
            <a:ext cx="1079280" cy="503280"/>
          </a:xfrm>
          <a:custGeom>
            <a:avLst/>
            <a:gdLst>
              <a:gd name="textAreaLeft" fmla="*/ 32400 w 1079280"/>
              <a:gd name="textAreaRight" fmla="*/ 1046880 w 107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03" h="21600">
                <a:moveTo>
                  <a:pt x="0" y="0"/>
                </a:moveTo>
                <a:lnTo>
                  <a:pt x="46303" y="0"/>
                </a:lnTo>
                <a:lnTo>
                  <a:pt x="46303" y="21600"/>
                </a:lnTo>
                <a:lnTo>
                  <a:pt x="0" y="21600"/>
                </a:lnTo>
                <a:close/>
              </a:path>
              <a:path fill="lightenLess" w="46303" h="21600">
                <a:moveTo>
                  <a:pt x="0" y="0"/>
                </a:moveTo>
                <a:lnTo>
                  <a:pt x="46303" y="0"/>
                </a:lnTo>
                <a:lnTo>
                  <a:pt x="44903" y="1400"/>
                </a:lnTo>
                <a:lnTo>
                  <a:pt x="1400" y="1400"/>
                </a:lnTo>
                <a:close/>
              </a:path>
              <a:path fill="darken" w="46303" h="21600">
                <a:moveTo>
                  <a:pt x="46303" y="0"/>
                </a:moveTo>
                <a:lnTo>
                  <a:pt x="46303" y="21600"/>
                </a:lnTo>
                <a:lnTo>
                  <a:pt x="44903" y="20200"/>
                </a:lnTo>
                <a:lnTo>
                  <a:pt x="44903" y="1400"/>
                </a:lnTo>
                <a:close/>
              </a:path>
              <a:path fill="darkenLess" w="46303" h="21600">
                <a:moveTo>
                  <a:pt x="46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03" y="20200"/>
                </a:lnTo>
                <a:close/>
              </a:path>
              <a:path fill="lighten" w="46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03" h="21600">
                <a:moveTo>
                  <a:pt x="16145" y="10800"/>
                </a:moveTo>
                <a:lnTo>
                  <a:pt x="30158" y="3794"/>
                </a:lnTo>
                <a:lnTo>
                  <a:pt x="30158" y="17806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3794"/>
                </a:moveTo>
                <a:lnTo>
                  <a:pt x="30197" y="10800"/>
                </a:lnTo>
                <a:lnTo>
                  <a:pt x="1618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843280" y="1413000"/>
          <a:ext cx="3311280" cy="5121000"/>
        </p:xfrm>
        <a:graphic>
          <a:graphicData uri="http://schemas.openxmlformats.org/drawingml/2006/table">
            <a:tbl>
              <a:tblPr/>
              <a:tblGrid>
                <a:gridCol w="331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…допы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б…г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…голю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…нён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…тат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…белё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…реж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…дна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99eb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76" name="Rectangle 28"/>
          <p:cNvSpPr/>
          <p:nvPr/>
        </p:nvSpPr>
        <p:spPr>
          <a:xfrm>
            <a:off x="1332000" y="206856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133200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1332000" y="271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1332000" y="336240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1332000" y="401148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1332000" y="4660920"/>
            <a:ext cx="1368360" cy="5014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1332000" y="530856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5"/>
          <p:cNvSpPr/>
          <p:nvPr/>
        </p:nvSpPr>
        <p:spPr>
          <a:xfrm>
            <a:off x="1332000" y="5956200"/>
            <a:ext cx="1368360" cy="50184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6"/>
          <p:cNvSpPr/>
          <p:nvPr/>
        </p:nvSpPr>
        <p:spPr>
          <a:xfrm>
            <a:off x="6299280" y="141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7"/>
          <p:cNvSpPr/>
          <p:nvPr/>
        </p:nvSpPr>
        <p:spPr>
          <a:xfrm>
            <a:off x="6299280" y="206532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8"/>
          <p:cNvSpPr/>
          <p:nvPr/>
        </p:nvSpPr>
        <p:spPr>
          <a:xfrm>
            <a:off x="6299280" y="271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6299280" y="336060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0"/>
          <p:cNvSpPr/>
          <p:nvPr/>
        </p:nvSpPr>
        <p:spPr>
          <a:xfrm>
            <a:off x="6299280" y="401004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1"/>
          <p:cNvSpPr/>
          <p:nvPr/>
        </p:nvSpPr>
        <p:spPr>
          <a:xfrm>
            <a:off x="6299280" y="4657680"/>
            <a:ext cx="1368360" cy="50472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2"/>
          <p:cNvSpPr/>
          <p:nvPr/>
        </p:nvSpPr>
        <p:spPr>
          <a:xfrm>
            <a:off x="6299280" y="530532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3"/>
          <p:cNvSpPr/>
          <p:nvPr/>
        </p:nvSpPr>
        <p:spPr>
          <a:xfrm>
            <a:off x="6299280" y="5952960"/>
            <a:ext cx="1368360" cy="505080"/>
          </a:xfrm>
          <a:prstGeom prst="rect">
            <a:avLst/>
          </a:prstGeom>
          <a:solidFill>
            <a:srgbClr val="00a8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4"/>
          <p:cNvSpPr/>
          <p:nvPr/>
        </p:nvSpPr>
        <p:spPr>
          <a:xfrm>
            <a:off x="1476360" y="1484280"/>
            <a:ext cx="35892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5"/>
          <p:cNvSpPr/>
          <p:nvPr/>
        </p:nvSpPr>
        <p:spPr>
          <a:xfrm>
            <a:off x="7093080" y="21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6"/>
          <p:cNvSpPr/>
          <p:nvPr/>
        </p:nvSpPr>
        <p:spPr>
          <a:xfrm>
            <a:off x="1476360" y="278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7"/>
          <p:cNvSpPr/>
          <p:nvPr/>
        </p:nvSpPr>
        <p:spPr>
          <a:xfrm>
            <a:off x="7093080" y="3429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48"/>
          <p:cNvSpPr/>
          <p:nvPr/>
        </p:nvSpPr>
        <p:spPr>
          <a:xfrm>
            <a:off x="1474920" y="4076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9"/>
          <p:cNvSpPr/>
          <p:nvPr/>
        </p:nvSpPr>
        <p:spPr>
          <a:xfrm>
            <a:off x="7093080" y="60260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0"/>
          <p:cNvSpPr/>
          <p:nvPr/>
        </p:nvSpPr>
        <p:spPr>
          <a:xfrm>
            <a:off x="1474920" y="47242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51"/>
          <p:cNvSpPr/>
          <p:nvPr/>
        </p:nvSpPr>
        <p:spPr>
          <a:xfrm>
            <a:off x="1474920" y="537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52"/>
          <p:cNvSpPr txBox="1"/>
          <p:nvPr/>
        </p:nvSpPr>
        <p:spPr>
          <a:xfrm>
            <a:off x="6443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1" name="WordArt 53"/>
          <p:cNvSpPr txBox="1"/>
          <p:nvPr/>
        </p:nvSpPr>
        <p:spPr>
          <a:xfrm>
            <a:off x="2195640" y="149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2" name="WordArt 54"/>
          <p:cNvSpPr txBox="1"/>
          <p:nvPr/>
        </p:nvSpPr>
        <p:spPr>
          <a:xfrm>
            <a:off x="212400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WordArt 55"/>
          <p:cNvSpPr txBox="1"/>
          <p:nvPr/>
        </p:nvSpPr>
        <p:spPr>
          <a:xfrm>
            <a:off x="6443640" y="213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4" name="WordArt 56"/>
          <p:cNvSpPr txBox="1"/>
          <p:nvPr/>
        </p:nvSpPr>
        <p:spPr>
          <a:xfrm>
            <a:off x="6443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7"/>
          <p:cNvSpPr txBox="1"/>
          <p:nvPr/>
        </p:nvSpPr>
        <p:spPr>
          <a:xfrm>
            <a:off x="2195640" y="278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6" name="WordArt 58"/>
          <p:cNvSpPr txBox="1"/>
          <p:nvPr/>
        </p:nvSpPr>
        <p:spPr>
          <a:xfrm>
            <a:off x="212580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7" name="WordArt 59"/>
          <p:cNvSpPr txBox="1"/>
          <p:nvPr/>
        </p:nvSpPr>
        <p:spPr>
          <a:xfrm>
            <a:off x="6443640" y="34336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8" name="WordArt 60"/>
          <p:cNvSpPr txBox="1"/>
          <p:nvPr/>
        </p:nvSpPr>
        <p:spPr>
          <a:xfrm>
            <a:off x="219708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09" name="WordArt 61"/>
          <p:cNvSpPr txBox="1"/>
          <p:nvPr/>
        </p:nvSpPr>
        <p:spPr>
          <a:xfrm>
            <a:off x="6443640" y="408312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0" name="WordArt 62"/>
          <p:cNvSpPr txBox="1"/>
          <p:nvPr/>
        </p:nvSpPr>
        <p:spPr>
          <a:xfrm>
            <a:off x="644364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63"/>
          <p:cNvSpPr txBox="1"/>
          <p:nvPr/>
        </p:nvSpPr>
        <p:spPr>
          <a:xfrm>
            <a:off x="2125800" y="47307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64"/>
          <p:cNvSpPr txBox="1"/>
          <p:nvPr/>
        </p:nvSpPr>
        <p:spPr>
          <a:xfrm>
            <a:off x="212400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65"/>
          <p:cNvSpPr txBox="1"/>
          <p:nvPr/>
        </p:nvSpPr>
        <p:spPr>
          <a:xfrm>
            <a:off x="6443640" y="53784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66"/>
          <p:cNvSpPr txBox="1"/>
          <p:nvPr/>
        </p:nvSpPr>
        <p:spPr>
          <a:xfrm>
            <a:off x="644364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67"/>
          <p:cNvSpPr txBox="1"/>
          <p:nvPr/>
        </p:nvSpPr>
        <p:spPr>
          <a:xfrm>
            <a:off x="2124000" y="60260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16" name="Picture 72" descr=""/>
          <p:cNvPicPr/>
          <p:nvPr/>
        </p:nvPicPr>
        <p:blipFill>
          <a:blip r:embed="rId1"/>
          <a:stretch/>
        </p:blipFill>
        <p:spPr>
          <a:xfrm>
            <a:off x="-108000" y="3789360"/>
            <a:ext cx="162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24699E-006 L -0.28333 0.0044 E">
                                      <p:cBhvr>
                                        <p:cTn id="74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23774E-007 L 0.22066 0.00463 E">
                                      <p:cBhvr>
                                        <p:cTn id="746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944E-006 L -0.28333 0.00462 E">
                                      <p:cBhvr>
                                        <p:cTn id="75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7734E-006 L 0.20469 0.00463 E">
                                      <p:cBhvr>
                                        <p:cTn id="75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6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01758E-007 L -0.27552 -0.00601 E">
                                      <p:cBhvr>
                                        <p:cTn id="76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2498E-006 L -0.27552 -0.00602 E">
                                      <p:cBhvr>
                                        <p:cTn id="771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81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12:44Z</dcterms:created>
  <dc:creator>Таня@Денис</dc:creator>
  <dc:description/>
  <dc:language>en-US</dc:language>
  <cp:lastModifiedBy>Owner</cp:lastModifiedBy>
  <dcterms:modified xsi:type="dcterms:W3CDTF">2012-08-19T08:20:34Z</dcterms:modified>
  <cp:revision>12</cp:revision>
  <dc:subject/>
  <dc:title>Муниципальное общеобразовательное учреждение средняя общеобразовательная школа № 15 город Глазов Удмуртская Республика</dc:title>
</cp:coreProperties>
</file>